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6E7-E719-4B14-B741-72B6484D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1E2-8B6D-4AA2-A3AD-312E9965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048-615C-481F-A821-F4C062D3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654-B9C0-4122-8936-C76D242E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C2C-DABC-4461-BF74-6A288BE6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900-75CB-4DD8-979A-05D0848B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417-1D6C-4567-BB55-12400780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3D1-A6C3-429E-BB43-56FEA4BD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0AB-AD9A-4C24-92B7-2A4879C1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426-1B46-45D8-ACA9-B053961E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4C2-49A5-46B8-B2C8-D7F6B1E7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3A5-410E-4FB3-8900-E621CB5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9791-0171-4A95-B6B4-3FFA54B021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5200">
            <a:off x="2531880" y="990720"/>
            <a:ext cx="456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数星星的孩子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28320" y="836640"/>
            <a:ext cx="850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牛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1880" y="476280"/>
            <a:ext cx="1642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织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114300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张衡是汉朝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78--139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我国著名的天文学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9640" y="112536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张衡是怎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276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这个数星星的孩子名字叫张衡，是汉朝人。他长大以后刻苦钻研天文，成为著名的天文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1905120"/>
            <a:ext cx="46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晚上，无边无际的星空是怎样的美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96252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蓝天  满天星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闪一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27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满天的星星像无数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珍珠撒在夜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371628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喻句：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星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  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71628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2060640"/>
            <a:ext cx="7397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较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空中有无数星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满天的星星像无数颗珍珠撒在夜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1080" y="1143000"/>
            <a:ext cx="46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张衡在干什么？圈出动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3933720"/>
            <a:ext cx="54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到了几百颗（说明了什么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1143000"/>
            <a:ext cx="52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爷爷的话告诉张衡哪些知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5909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斗星像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勺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19:54Z</dcterms:created>
  <dc:creator>X-man</dc:creator>
  <dc:description/>
  <dc:language>en-US</dc:language>
  <cp:lastModifiedBy>微软用户</cp:lastModifiedBy>
  <dcterms:modified xsi:type="dcterms:W3CDTF">2012-04-24T02:31:19Z</dcterms:modified>
  <cp:revision>50</cp:revision>
  <dc:subject/>
  <dc:title>PowerPoint 演示文稿</dc:title>
</cp:coreProperties>
</file>